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788-0E1C-4C63-8293-F27C09A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A10-E353-477C-B079-26B794A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6C8-CD12-4FEA-B18B-BF3DD154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14E-543F-4596-8243-28300BDB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281-4A20-40F7-9DD5-BEC4F6C3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3DF-CBEB-4893-83A7-825C29C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360-6980-4B30-A039-A06A3735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80D-66C1-486B-8F46-9AD0F6D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4DD-63D0-42B5-8F47-824654E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370-5F1D-49F4-A645-3E5754F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CDE-372B-48E7-945D-D7B34DE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955-D923-46C4-80C4-3B2B18E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E0D6-B240-4C6A-9F44-775A891EA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e llamo _________         Clase 702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La fecha es el 15 de septiembre de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Como eres tú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- Conjuga el verbo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I- Completa con la forma correcta del verbo S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éctor ______ muy intelig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 no _______ pelirroj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is amigos y yo ________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_______ tú un(a) buen(a) alum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Rosa _________ estadouniden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upe y José ________ amig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93640" y="2255760"/>
          <a:ext cx="7620120" cy="1706760"/>
        </p:xfrm>
        <a:graphic>
          <a:graphicData uri="http://schemas.openxmlformats.org/drawingml/2006/table">
            <a:tbl>
              <a:tblPr/>
              <a:tblGrid>
                <a:gridCol w="1600200"/>
                <a:gridCol w="1790640"/>
                <a:gridCol w="2248200"/>
                <a:gridCol w="1981080"/>
              </a:tblGrid>
              <a:tr h="4269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(to b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41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 Escribe en Plu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hico es estadouni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urso es fa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601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I. Copia y completa con la forma correcta de S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ra, ¿De dónde ______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_______ de Florida o de Cuba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de Cub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h, ___________ cubanoamerican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. Y tú, ¿De dónde ___________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Yo? Yo _______ de Dall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mexicanoamerica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- Completa con la forma correcta del verb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___ abogad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law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padre ____ español y mi madre ___ norte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 hermano y yo __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padres también ______ ru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no _______ a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 flaco, pero mi hermano ____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s dos hermanas ____ enfermera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urses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ellas ______ muy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________ tú? ¿________ alto o bajo, flaco o go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i amigo. Tú ______ peruano, yo ______ norte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Responde en oraciones compl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sociable o tímid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d. alto/a o bajo/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franceses o norteameric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on Uds. ricos o pob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usted una persona alegre o tr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: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un 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6320" y="2544840"/>
            <a:ext cx="1447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371600" y="236232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leg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13508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117144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71800" y="266688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rofesor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71800" y="30481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aestro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5567400" y="1098720"/>
            <a:ext cx="1824120" cy="1415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5638680" y="2438280"/>
            <a:ext cx="17528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lum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486400" y="2895480"/>
            <a:ext cx="2133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stud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2109960" cy="1071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7543800" y="2620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7"/>
          <a:stretch/>
        </p:blipFill>
        <p:spPr>
          <a:xfrm>
            <a:off x="7772400" y="91440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"/>
          <p:cNvPicPr/>
          <p:nvPr/>
        </p:nvPicPr>
        <p:blipFill>
          <a:blip r:embed="rId8"/>
          <a:stretch/>
        </p:blipFill>
        <p:spPr>
          <a:xfrm>
            <a:off x="5867280" y="3505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9"/>
          <a:stretch/>
        </p:blipFill>
        <p:spPr>
          <a:xfrm>
            <a:off x="4267080" y="37339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3"/>
          <p:cNvSpPr/>
          <p:nvPr/>
        </p:nvSpPr>
        <p:spPr>
          <a:xfrm>
            <a:off x="533520" y="4648320"/>
            <a:ext cx="1447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us esco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590920" y="5410080"/>
            <a:ext cx="1676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648320" y="49528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6400800" y="48006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7848720" y="533412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143000" y="6019920"/>
            <a:ext cx="7010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Verdana"/>
              </a:rPr>
              <a:t>Materiales Escola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4-09-15T15:36:18Z</cp:lastPrinted>
  <dcterms:modified xsi:type="dcterms:W3CDTF">2014-09-15T17:45:05Z</dcterms:modified>
  <cp:revision>13</cp:revision>
  <dc:subject/>
  <dc:title>Me llamo _________         Clase 6NH/IL La fecha es el 16 de diciembre del 2010</dc:title>
</cp:coreProperties>
</file>